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83A-FCD2-45D1-8E66-661C0511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0DE-98CB-44BF-9D3A-068A27A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7A6-E036-4141-9135-44DC07B2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D6F-10AD-4C5C-9589-373864EE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EE1E-7A6E-42BF-94B4-3392CD6D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1659-9D65-4ECE-9AB0-596196D0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73C7-8A1D-4F5D-B581-65E354D7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32F0-E89A-436A-8571-56C9A0F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9D66-BFB7-4930-9569-021E6EA8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3FB3-6C24-46B2-8041-D128C8E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98A2-E370-454B-87AE-C864DAD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966-31CA-43BD-9950-5E00ACDA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2A6-B174-4B9D-8166-6610F50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867-D4D9-42F3-BF05-73D155A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8AD-6DF0-409E-8D6B-6F957868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4E6E-BC99-41C7-BDBF-451B98F4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55DA-095D-4748-843B-A7EEC0EC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54C7-3098-4899-A013-0FD6A805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E23B-FA53-4C0D-9709-BF7EAC5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8AEB-6785-4198-A16A-4207026F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E15A-235A-449D-8255-83508AC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0D55-32F3-4176-89FA-47F5E02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83D-E79C-4347-BAAB-38EFE384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9A96-322B-4B04-81B9-E74DF7A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E29A-5981-4526-B0B2-545AEE5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8AA6-B860-4690-9194-FC2B637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D1B4-C934-4EEB-88B9-DD213A5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1084-DE76-400A-8C75-C02AA22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557C-75D0-43A2-AC4B-150D4FBE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A643-D189-437C-A4D2-6A24FA67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C7D47-BE05-4E50-B5F7-95928DED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0011-38FF-4962-931B-4607125A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29E6-11CC-4E65-BD0F-07D06F00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2D1-E044-4CA0-A34D-0990AC10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5AD5-17A7-49F4-B88D-09F2AFE1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78C2-3C24-4216-BC66-A24E43B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0D77-CFF9-4F54-967B-5ABD723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D1C6-0E33-4B6D-A723-E5301DF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FB6C-DD6E-4C79-A6B5-B8F0F1F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078A-773C-45CF-B067-D6CB0BC8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BC67-E643-4A5D-8BEB-29E4BA54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DAA2-762F-49A5-B1EE-5A94E7F0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A3D9-12D4-46B1-8972-2A85988F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D17A-1B28-4995-AED5-9E5CB1E2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EA0-A6C6-4EE8-807D-4C8B1A4A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E5C4-4A09-4B51-869E-4441696E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7DEE-F1D7-4460-9DCD-96DC21A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0E14-DEC2-4145-B597-01A7230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674E2-FF06-4939-8BC8-DECF1460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9DE0-0CBA-410E-9279-7FE7847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ACA7-8962-4F9B-8086-15CBD09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D975-5601-4948-8845-048CB81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D1D74-90C2-4783-83B6-4CCBCBCC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351E-BE11-4BF5-8C50-4CDA9CD0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82B5-C0C5-40F5-A3D7-CC0874F4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FEB-0F0F-4782-8681-E542FC7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188E2-A8B4-4F10-B95B-70D57CC6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FA3-7322-47A6-9625-8F0DC7F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1DC-FEF0-41B7-8D32-BFCD13C3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AED-5B5A-44D7-8697-64805E5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90C6-5A84-479C-8BD1-A49972EA6B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92A1-28C0-4A7B-9E41-263E69B5E9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A4A1-1B14-484B-8F61-1CFA4DD1050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0DC-98F5-461C-9C42-52DB961680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2B4A-BFD8-49F7-AD34-54A351E8E2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ept. 2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genda for Freshme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DO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Ch. 2 and 3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Ch. 3 journal respon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Perpetua"/>
              </a:rPr>
              <a:t>Ch. 4 for homewor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genda for Junio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alden Quiz (open boo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Perpetua"/>
              </a:rPr>
              <a:t>I took biology algebra world history spanish and english last year, the academic experience had an all together awe inspiring affect on me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Perpetua"/>
              </a:rPr>
              <a:t>Nasal:nose::optic:______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Perpetua"/>
              </a:rPr>
              <a:t>Journey:destination::_______:finish lin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3:23:27Z</dcterms:created>
  <dc:creator>litchfield</dc:creator>
  <dc:description/>
  <dc:language>en-US</dc:language>
  <cp:lastModifiedBy>VMS</cp:lastModifiedBy>
  <dcterms:modified xsi:type="dcterms:W3CDTF">2009-09-24T14:30:02Z</dcterms:modified>
  <cp:revision>2</cp:revision>
  <dc:subject/>
  <dc:title>English</dc:title>
</cp:coreProperties>
</file>